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750B-E43D-46F2-AD0B-FB5CC70B1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64DB-1B2D-4E65-9F34-ACCFBE036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58BCDE-7006-45F8-A663-8B2C1528C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815D0A-582D-4598-90C8-84B4DC98F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F86949-2EE6-40F5-82AC-6012E864F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63368F-2190-49A6-84E9-2F26982DA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C4F4C6-BCCE-4B84-BCA5-D4237603B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F72D1C-1B80-4C19-A04E-3D307CA0B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9DA500-2477-49B9-9F45-96E3B1185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ABDB61-5340-406D-AF33-14286EE39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62BD6D-A712-4B07-A124-AA714F01E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7A988C-ADDD-459C-918F-DA9008C93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FC74-9117-4874-AAEE-DB74CDD67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9190F9-3A3D-41E0-8E28-5156A1B29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B8BB1C-6F7A-46C3-AD5D-36D8AD283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2B2ED2-D8E6-4CAA-821C-B1678DBEF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959EEA-7359-4959-A778-A965A78C2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38D1CD-7C76-4669-B2C6-439CD0360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2882D6-9512-42EE-88C3-CFDCDDF00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61588D-3D5E-465B-8771-DB4B3C22B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DBAE41-49E9-4395-9EAA-CA06E4265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4F9D36-713B-464F-B75F-92211B036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7B1A00-68E0-41FC-AF66-A515D7755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DC63-B75C-4B13-9775-49093C583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72D701-F7F2-42B6-80F6-50E28A96D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A582FD-AFBF-4540-BF96-418542B8C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656803-1364-4919-92E7-9C8F5260A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D67475-40F8-45B2-9C36-5DE1B0073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4E2AC8-527B-4DA5-B908-7353FC5D5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A202B3-B435-47AA-8B20-904E528B2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2532CB-752B-4A7C-8DB1-DDBB1F5B8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94E960-2EF6-4FBD-AD72-E42E7716F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125D9A-7901-4BD7-854E-1956ED36E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F4A8C6-1C4B-4C9E-A297-BBFEE91F9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D7C25-8D8A-4ADD-A894-8A6567328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674837-0ED0-4F1D-A617-CE07E6DE8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5615C9-1BE7-4FCA-AFA2-1A7F0B74A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BB9E39-CE1E-4AFA-9DB2-6DFC56A0D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369E42-303A-4EC3-81DC-9D293429F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E07C85-2C45-42B2-A106-462A61961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BB9AFC-DC4C-46C3-A265-845C8437C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07E893-9FF8-47F1-A726-0A51AC84D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8EB47A-5983-404E-9F15-7B0043513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463137-5A9E-40FF-8452-DC996E7DC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FD47F2-F30C-4DA1-B51A-15A501A3A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C6B1C-5625-4B55-B910-4E81CE5D8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B59520-921A-47EB-873B-22D25F507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C791FC-AC6C-49C0-B68D-B91560753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8614E3-070E-4368-B2DD-F50194A10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9D2C61-0082-40A5-8C13-BBBCEDF23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3B1186-0CA1-4B4E-9C69-C6F0C8D95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C6F529-241B-4FCC-89E7-97668057A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2635BD-9467-47DC-8809-B8F976AC4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90244A-CA5D-4330-A4CB-51FDA5F71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759768-EEFC-4EEF-8BD9-39020A0FC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02C677-1150-4925-B503-87767D8E7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D3F9A-450E-4BA5-9E7A-065694E55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09871C-10CE-44B2-A707-27F33DC1D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E13986-1C9C-4E2F-9332-B7305FE2E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0FD380-96F9-4EC0-948C-B1FB213AD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35A816-E178-47E7-B90F-6E7DF6E2E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942572-C316-45C6-8FBB-25441585B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DF06B4-C95B-4E87-A0AF-5282820B2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595E3D-3E91-4B53-B8EB-5B71201BA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BB25013-0B56-4794-9063-786B3CA46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399A40-2BCC-4BD9-94EC-477AB09C4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0869920-AE29-4813-B75F-78FA37189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E7D2C-AEA0-4124-BCBA-51E1ED4F8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42D2017-F6D1-4A61-8886-E2FE047BA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AF288A-7E40-4EF6-8532-8CB396C89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68C3BD-A0D6-4F80-96B5-78B74FE99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8D7EF71-FE00-4BFB-AE34-15D557BC4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263188-86BA-4CB9-8CAF-8E8AE81AD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B0BFCC-CB96-4D32-B378-2EDE8A6BC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BC91EF-6F85-468A-9B56-06934E6A7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B68739-29DA-48C1-A87B-642054091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B888AF-90EA-48DF-A801-5F17E27EA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F4116C7-6616-4D84-BCBA-51102DE34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828F6-900A-4452-9EAB-A1A47A869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F012696-8DD2-4C46-B2BF-ABAA867D0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F24A9BD-8554-41A3-A7A9-2B140C25B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8677BC9-7AEB-4734-AF7E-F3324FC70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362DD96-155A-401D-834A-99DE53342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B7AB983-37CF-47FA-91CB-A79B63CD0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FBB13BE-424D-4B2D-A671-17CCCC051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4326E67-524C-4F3C-9BE3-94DDFC85B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F001E2E-F59A-4488-9AA8-5EE24A611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8839003-F1F4-4AB2-B8FA-84526E32C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248228C-7888-47D7-9A77-1D269DFF8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69A81-2E4B-40C6-ACF7-646616B9E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E201D31-DABD-4AFF-9904-95D823FCE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58FB746-9649-4594-9B54-A9A8902EA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E5AE5A5-4B91-4CDF-BADD-7BEC659D7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08565D8-6B17-4A79-9794-FF50CA7E5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EFBE95C-FC46-43A5-B9EE-6E4AA592F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E316F9D-3989-4681-A405-F5B534EE7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D2D3E3D-7826-428D-A8A5-9862A1253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D29FDD0-44AE-4A96-A29F-75A88402B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3E27F5A-CFC0-467C-8CA1-D8FCA8FEC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3C2E64D-0F6C-4F4C-B5A7-10C862140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DE254-23AD-468B-BCA4-4AD149F61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80E2F04-7DC9-40D2-A177-24EE6B742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A6BC3AB-5E57-4BCE-96E9-919C0C365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9FBE80B-840C-40A8-BFBE-1DB5AE477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B6222B6-626C-4737-9163-81E410D3B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C722D6E-0E70-4D5F-8C5D-10CBAAE3A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0BA3AB1-6201-4FB9-9DA6-2C3C2E282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0B969BA-E233-4D3C-80C1-79F588182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6EBA7E4-9382-4175-A006-ED1384A3E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311C837-5A4A-4B0C-B175-CD43B55AF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843C5D3-FDAD-4BAF-8D71-5E51B54DD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7025-8C0F-4D74-8B91-D8B8FD005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F284E-A6A2-425C-B7BE-826CEF55F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92F8DD5-E5FE-4233-865A-BB7E661A2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C8CED81-A25D-4308-9270-FC4FE263D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3775162-6FBA-4F88-819F-4A2349490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183D308-7EF8-4CC4-AB5B-86AB346F6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8237536-812C-4A73-9870-E260D8AAE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0F078DE-EC64-4020-BF01-CEA9FD089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D3CE1CE-C5FD-4B3D-9B26-7E5924F45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2DB9DA1-4A36-4480-919B-C7902CAB1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75462CB-F631-4E40-8280-8B1DBD424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E231207-7955-49F4-B1EB-47A8BBDD9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0BAD0-83E1-4701-A039-86DB7E973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47ACD7B-6459-43B1-A168-002C697E8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65EEC4C-D5A7-497C-BDCB-57071940E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47A0286-9742-4598-80AA-CEAF0C6A7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C1F9DDB-BE7F-44A5-B320-55C124C78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AE0479D-41E6-49FF-A372-A303189D9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E313CC3-319E-457B-B74A-957D413E7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CDDD7E8-FBFD-4B66-90D9-5E7647FFE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5B51319-A7C9-44AA-AC0B-5B75F9A65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AA90137-FA14-49A9-AE46-4F1F2E29A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0E67142-2922-42C7-AAD3-5AD1ACEB5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4F78F-2A6C-49D2-8831-0EC078170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4DDC0DF-BCDF-41EE-9EBE-7BEC2E65F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6145CC4-3115-4529-80CD-8D5220883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DB14C85-3328-456A-B310-9F80D6311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4718092-FF1A-4171-BA3A-96E1A2E97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205D7AC-9C06-4711-AA14-0DECDFAAC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9BC5DA9-9040-4DD3-A797-1E6EA8AF3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4887A6A-104C-448D-9E2D-28710AC61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0955F55-2198-4533-9045-989D0C8DF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633853F-3EF0-49C9-97C2-35B4DF9BA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BC08482-541F-4E41-B2FA-4B4F08E2B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C0271-B6B4-4BC3-B640-49F6DE75D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26B15C4-A556-4A96-AC8A-7218721DC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3147BFA-5688-436A-9671-1E2069DEB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DDE704E-69BD-4E54-BD81-6ACC7A0E4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9ECFF1A-8366-482A-8396-615B21874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E97B5D9-863C-41DF-9CDA-5C925D8BA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8814084-4FF2-426F-97EB-DEB054424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A6A4332-4F91-46B9-B4D1-C8C13AA88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374FAC7-BB7B-4872-B338-DC122CD72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FDDE8AB-D6EC-4BF2-B1B8-FBBCF54DC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31C87E1-CF77-401A-B3A8-3A7FFACD4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E3316-FA75-468B-9943-7D2FA5081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D64F3BE-AC89-4678-8355-3A7D9B165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3B948BA-8F51-429E-986B-040E3DC65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B18C45F-51A8-4D4E-9FE4-38541C926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88436EB-AD44-404D-B339-FACFC2DAB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13F3AC1-D0D4-49C9-A6A0-45C0F282B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47F0358-66C8-4B3A-A2CB-3692B99CB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5EA80E3-6160-4561-B9BB-730F6BABF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3C84BC3-919B-4B02-B47F-274C74FB9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E0B0967-00A1-43FA-861D-62C5D5718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3BEEEB5-BF43-445A-B5E0-495278D23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80C610-3270-4A93-8B97-322706CE9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C14BB36-E1BC-42E5-9023-CE51F5411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6DCFF05-7F27-43CC-93C1-3788CF422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4CB7678-225E-4E53-ABBD-6D7415280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4117D5-ED78-40E7-8628-AD4E92803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80E28A-D7FC-4CE5-808A-AF1D1E128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8B0410-F364-47D3-B93E-982CAF6A5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F7CA2F-9DA9-4FF4-B446-C75A9D9D1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69EE-0447-411B-9634-5473ABD0A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409487-FE50-44B0-8ED0-AFA82854F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35F57F-B9A6-4409-BD10-D85ABC08C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5E72D5-091F-4CAA-9E89-6D1BC4EC5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0B2346-C881-477C-AA39-E14264EE4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298154-0724-47E9-A6FE-3AD67B16B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B77B0C-8550-4167-A23E-85336C388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AEE802-7F30-4307-ABEE-6CB156035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14ADBD-73E4-44C2-B970-29D18F435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C2299F-F26E-4B7C-A17E-CC5F85522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A6CC5D-3CA3-4C1E-BA55-18A169879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A1FA-1346-47DF-9108-99701212E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5CEF6F-5916-405A-AD15-096404E3C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E99768-AE10-477E-83D1-F0526DA3A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FFBAED-63C9-4976-82E1-0045BE3EA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C433A0-8F84-4CF7-BDEC-8E27225C0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90E2B9-1BCD-4C9E-9B54-E55A94745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EC78F5-EAA1-47F1-B72C-0BFD7F64C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9FED47-E852-422C-BA5F-25552041C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F26B24-3D42-4ACB-B6D9-299E39D80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5C08A4-89E1-47DE-AAC1-32E268AF2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1CB579-3D00-4524-A19A-5DE290B61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D4B3-30F7-44A5-A288-8ED175BC0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5802F0-8EF4-41DD-8CA8-BDF93DFBF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688E8C-8004-49E6-82A2-3D403C1CA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331490-B594-4965-838A-482E67D8F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B528FB-C4EE-448C-9D9E-DFE8D4348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01653F-82F6-4E06-A1D8-C905A14CF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30754A-31F0-43D2-9398-42537C03C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C16D42-BB31-428D-97CB-E7E0D7CA3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AD7E4E-C7DD-47B9-B148-4F186F5B4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216897-C42F-476A-A4B3-719F04EBE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D8CF3C-7D2E-45EE-AA48-16A8165C1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4E31-F83D-4C48-B42F-1D70FEB87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320066-9FA5-4ABB-B2F7-70BBA0371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0CAF77-357B-4CAC-BAE7-0E7E78ECD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3793EF-B6B6-402C-BCE9-0E769EEE3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EAD911-ADF1-42DB-B504-E23782B77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D15D00-3344-4DA3-B4EC-A12781871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50D1C2-1391-4566-B03C-92FDEC89C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3A815B-44E2-435F-AC05-BA12C0846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06D962-E95B-4C79-A952-0BD9C1BAC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317DB4-1F20-4DD0-8964-B917A7E8C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50C7C1-1532-4A85-BA8B-1901CBF6B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3180-BCBC-45E6-9C58-B8306F51C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767344-BA75-49E6-8B09-3B7E1469A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80CC28-ED7E-4C5E-BD07-C9B75C206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51798E-8394-4AA4-8792-6F86AE549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755675-2BCF-40D5-91B4-9E382B6D3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AF75C1-1116-4F94-9A99-DAE54D68A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99FA42-3572-4F92-A440-83B79E669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85959C-7EF9-4B47-B61F-73AB819E4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15630A-703C-4DEB-923B-DD6443ABD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CAFB36-AFF9-46E4-9A27-31DCFD372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EFF096-E729-4A59-A5CF-1084DDA1A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E6E1-C4E9-491C-A259-FB56E86FC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F7A473-8431-43EB-B609-C7945522C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7B8A3F-7F36-4586-8384-F1E106585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A54DD3-395C-4E65-977F-E04939BBA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8BFD62-C3D7-4D73-B188-68E40005F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1069B7-E9B7-425B-87D0-C9498CDFD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CFDB08-57EB-43D7-959E-05EECEDFB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A4F348-2A8F-40A3-AE74-9F702C315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416878-CCF9-46F1-8E48-1BB72C194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1BE731-78C4-46F6-9497-B9F6F787F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BBC430-D4CC-42F1-9C56-CE74676B6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5855-0225-4DFC-AD7D-F7D39B2E7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1A08DF-9FC5-4AFF-9A0F-11FB3CB1E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C5E4C0-2BE5-49F0-A1F3-BA78C8A34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339D19-0465-40E5-9197-144107969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044EAE-8FA5-4A6D-903A-AF19A07A5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A87F3B-BA36-42DE-90E3-21415E6CE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EB4AC6-B21B-41E5-83E2-1D7C5513A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6EE333-DBF7-4F19-B9DD-3185E2BA1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7AA6D3-B9E1-4EBA-9F7E-DBB78D803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4F0957-C342-49B6-8DC3-6B1C877E8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71F19D-A210-4090-BCD6-0C99ABF87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71206-F1B6-4E93-BB1B-76B9A1960D3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B2BFD-942F-40ED-903C-92F84914E36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FA5AD-58CB-4F43-AAD8-C3C5DDA3F79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09042-722B-46C4-816E-E02C19E47F2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2D52A-323D-4A37-BF28-5BFBBD28AED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95017-9568-463A-A8D1-A1484B52B93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E5D68-FE7B-4683-846A-76B02447219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69DFD-E6B5-48A0-91EB-5C26B3E0D9C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B53BD-511D-4A60-A017-A899D89AF8F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6038D-2949-48D6-B408-7B38A62E15D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28ACE-23B3-4842-9AB2-C330A426C24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4C804-501C-459F-9654-BFF3483EE6E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792F1-0425-470B-8FA8-BC0006BCC6B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89217-31BA-44B3-B876-8EF188FE69F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D25F5-DF3F-42EA-8755-F6A1A49D342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1FF08-AE48-4133-B62C-DBA8AFD6899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DB5F1-9A1D-4E32-990A-0DC2BD3B768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34967-AB49-462B-B410-421986D2963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35BD9-D3B5-4FE5-A5B1-BA487352E0F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E3DFF-0F54-4A9D-BED5-49932F4900A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2B1C6-38DD-4A01-94A4-DEB6766D1D5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838CC-18DB-412E-B11F-3E6D6C5C1E1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80E5A-F6E6-4E83-89A5-2EBC02217E7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7B8AC-FA12-422F-852F-3DC091CF286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0FCDD-A790-42F4-B42C-A3C3C1A75C8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FABF2-E30C-4F20-BA49-34E2085657B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14409-872F-4A79-830D-C9935D8E0DB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233C8-1F65-4498-9E77-0CDBB670105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EFBC4-B7D1-4A0A-AA57-D7FE53318BD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D03E1-7CE2-4DAC-ACBA-63B672D2183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6C181-79AF-491A-8611-80EE31E8FE5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4006E-A9A4-4CCB-9EAD-0FB7B5E0FAB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546AF-4A01-4931-BBE9-16AA0D2A85B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F0689-95BE-40D0-9487-A10D8BFF594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65E35-D3A4-4F42-B68C-0084FCCEDB3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8327A-1384-413B-AD9D-94CD2518083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7C357-018A-457C-A7EB-E2F0A9E846D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B23D3-F2DB-4406-8CD9-7CE3E09FA10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6170A-D9CD-45D5-9632-7445C817119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CB6D9-9069-4B7E-9691-8A8719C03A0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图片 28678" descr=""/>
          <p:cNvPicPr/>
          <p:nvPr/>
        </p:nvPicPr>
        <p:blipFill>
          <a:blip r:embed="rId1"/>
          <a:stretch/>
        </p:blipFill>
        <p:spPr>
          <a:xfrm>
            <a:off x="2000160" y="3005280"/>
            <a:ext cx="5143680" cy="84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1" name="图片 69633" descr=""/>
          <p:cNvPicPr/>
          <p:nvPr/>
        </p:nvPicPr>
        <p:blipFill>
          <a:blip r:embed="rId1"/>
          <a:stretch/>
        </p:blipFill>
        <p:spPr>
          <a:xfrm>
            <a:off x="509760" y="957240"/>
            <a:ext cx="8124480" cy="494352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1" descr=""/>
          <p:cNvPicPr/>
          <p:nvPr/>
        </p:nvPicPr>
        <p:blipFill>
          <a:blip r:embed="rId2"/>
          <a:stretch/>
        </p:blipFill>
        <p:spPr>
          <a:xfrm>
            <a:off x="900000" y="2637000"/>
            <a:ext cx="6264360" cy="44748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1" descr=""/>
          <p:cNvPicPr/>
          <p:nvPr/>
        </p:nvPicPr>
        <p:blipFill>
          <a:blip r:embed="rId3"/>
          <a:stretch/>
        </p:blipFill>
        <p:spPr>
          <a:xfrm>
            <a:off x="900000" y="3141720"/>
            <a:ext cx="6264360" cy="44748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1" descr=""/>
          <p:cNvPicPr/>
          <p:nvPr/>
        </p:nvPicPr>
        <p:blipFill>
          <a:blip r:embed="rId4"/>
          <a:stretch/>
        </p:blipFill>
        <p:spPr>
          <a:xfrm>
            <a:off x="1116000" y="3673440"/>
            <a:ext cx="6264360" cy="44784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1" descr=""/>
          <p:cNvPicPr/>
          <p:nvPr/>
        </p:nvPicPr>
        <p:blipFill>
          <a:blip r:embed="rId5"/>
          <a:stretch/>
        </p:blipFill>
        <p:spPr>
          <a:xfrm>
            <a:off x="971640" y="4221000"/>
            <a:ext cx="6264360" cy="44784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1" descr=""/>
          <p:cNvPicPr/>
          <p:nvPr/>
        </p:nvPicPr>
        <p:blipFill>
          <a:blip r:embed="rId6"/>
          <a:stretch/>
        </p:blipFill>
        <p:spPr>
          <a:xfrm>
            <a:off x="971640" y="4724280"/>
            <a:ext cx="6264360" cy="44784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1" descr=""/>
          <p:cNvPicPr/>
          <p:nvPr/>
        </p:nvPicPr>
        <p:blipFill>
          <a:blip r:embed="rId7"/>
          <a:stretch/>
        </p:blipFill>
        <p:spPr>
          <a:xfrm>
            <a:off x="1042920" y="5243400"/>
            <a:ext cx="626436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2" dur="1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7" dur="1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2" dur="10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7" dur="10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2" dur="10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7" dur="10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图片 60428" descr=""/>
          <p:cNvPicPr/>
          <p:nvPr/>
        </p:nvPicPr>
        <p:blipFill>
          <a:blip r:embed="rId1"/>
          <a:stretch/>
        </p:blipFill>
        <p:spPr>
          <a:xfrm>
            <a:off x="223920" y="1924200"/>
            <a:ext cx="8696160" cy="300960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1" descr=""/>
          <p:cNvPicPr/>
          <p:nvPr/>
        </p:nvPicPr>
        <p:blipFill>
          <a:blip r:embed="rId2"/>
          <a:stretch/>
        </p:blipFill>
        <p:spPr>
          <a:xfrm>
            <a:off x="3924360" y="4394160"/>
            <a:ext cx="1727280" cy="44784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1" descr=""/>
          <p:cNvPicPr/>
          <p:nvPr/>
        </p:nvPicPr>
        <p:blipFill>
          <a:blip r:embed="rId3"/>
          <a:stretch/>
        </p:blipFill>
        <p:spPr>
          <a:xfrm>
            <a:off x="6948360" y="4394160"/>
            <a:ext cx="136872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6" name="图片 59410" descr=""/>
          <p:cNvPicPr/>
          <p:nvPr/>
        </p:nvPicPr>
        <p:blipFill>
          <a:blip r:embed="rId1"/>
          <a:stretch/>
        </p:blipFill>
        <p:spPr>
          <a:xfrm>
            <a:off x="223920" y="509760"/>
            <a:ext cx="8696160" cy="583848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1" descr=""/>
          <p:cNvPicPr/>
          <p:nvPr/>
        </p:nvPicPr>
        <p:blipFill>
          <a:blip r:embed="rId2"/>
          <a:stretch/>
        </p:blipFill>
        <p:spPr>
          <a:xfrm>
            <a:off x="7956720" y="2997360"/>
            <a:ext cx="502920" cy="44748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1" descr=""/>
          <p:cNvPicPr/>
          <p:nvPr/>
        </p:nvPicPr>
        <p:blipFill>
          <a:blip r:embed="rId3"/>
          <a:stretch/>
        </p:blipFill>
        <p:spPr>
          <a:xfrm>
            <a:off x="7956720" y="5315040"/>
            <a:ext cx="50292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9" name="图片 58373" descr=""/>
          <p:cNvPicPr/>
          <p:nvPr/>
        </p:nvPicPr>
        <p:blipFill>
          <a:blip r:embed="rId1"/>
          <a:stretch/>
        </p:blipFill>
        <p:spPr>
          <a:xfrm>
            <a:off x="266760" y="557280"/>
            <a:ext cx="8610480" cy="574344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2"/>
          <a:stretch/>
        </p:blipFill>
        <p:spPr>
          <a:xfrm>
            <a:off x="2843280" y="2852640"/>
            <a:ext cx="1584360" cy="44784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3"/>
          <a:stretch/>
        </p:blipFill>
        <p:spPr>
          <a:xfrm>
            <a:off x="5724360" y="4595760"/>
            <a:ext cx="2448000" cy="44784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4"/>
          <a:stretch/>
        </p:blipFill>
        <p:spPr>
          <a:xfrm>
            <a:off x="971640" y="5762520"/>
            <a:ext cx="93636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3" name="图片 57352" descr=""/>
          <p:cNvPicPr/>
          <p:nvPr/>
        </p:nvPicPr>
        <p:blipFill>
          <a:blip r:embed="rId1"/>
          <a:stretch/>
        </p:blipFill>
        <p:spPr>
          <a:xfrm>
            <a:off x="333360" y="1719360"/>
            <a:ext cx="8477280" cy="341928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2"/>
          <a:stretch/>
        </p:blipFill>
        <p:spPr>
          <a:xfrm>
            <a:off x="611280" y="2881440"/>
            <a:ext cx="3097080" cy="44748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1" descr=""/>
          <p:cNvPicPr/>
          <p:nvPr/>
        </p:nvPicPr>
        <p:blipFill>
          <a:blip r:embed="rId3"/>
          <a:stretch/>
        </p:blipFill>
        <p:spPr>
          <a:xfrm>
            <a:off x="4427640" y="2881440"/>
            <a:ext cx="4176720" cy="44748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1" descr=""/>
          <p:cNvPicPr/>
          <p:nvPr/>
        </p:nvPicPr>
        <p:blipFill>
          <a:blip r:embed="rId4"/>
          <a:stretch/>
        </p:blipFill>
        <p:spPr>
          <a:xfrm>
            <a:off x="539640" y="4638600"/>
            <a:ext cx="3672000" cy="44784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5"/>
          <a:stretch/>
        </p:blipFill>
        <p:spPr>
          <a:xfrm>
            <a:off x="4572000" y="4595760"/>
            <a:ext cx="417672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7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2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7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2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8" name="图片 56324" descr=""/>
          <p:cNvPicPr/>
          <p:nvPr/>
        </p:nvPicPr>
        <p:blipFill>
          <a:blip r:embed="rId1"/>
          <a:stretch/>
        </p:blipFill>
        <p:spPr>
          <a:xfrm>
            <a:off x="247680" y="1647720"/>
            <a:ext cx="8648640" cy="356256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2"/>
          <a:stretch/>
        </p:blipFill>
        <p:spPr>
          <a:xfrm>
            <a:off x="684360" y="2852640"/>
            <a:ext cx="3456000" cy="44784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" descr=""/>
          <p:cNvPicPr/>
          <p:nvPr/>
        </p:nvPicPr>
        <p:blipFill>
          <a:blip r:embed="rId3"/>
          <a:stretch/>
        </p:blipFill>
        <p:spPr>
          <a:xfrm>
            <a:off x="4557600" y="2852640"/>
            <a:ext cx="4118040" cy="44784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1" descr=""/>
          <p:cNvPicPr/>
          <p:nvPr/>
        </p:nvPicPr>
        <p:blipFill>
          <a:blip r:embed="rId4"/>
          <a:stretch/>
        </p:blipFill>
        <p:spPr>
          <a:xfrm>
            <a:off x="468360" y="4581360"/>
            <a:ext cx="4376520" cy="44784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1" descr=""/>
          <p:cNvPicPr/>
          <p:nvPr/>
        </p:nvPicPr>
        <p:blipFill>
          <a:blip r:embed="rId5"/>
          <a:stretch/>
        </p:blipFill>
        <p:spPr>
          <a:xfrm>
            <a:off x="4932360" y="4581360"/>
            <a:ext cx="36720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9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4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9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4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3" name="图片 55300" descr=""/>
          <p:cNvPicPr/>
          <p:nvPr/>
        </p:nvPicPr>
        <p:blipFill>
          <a:blip r:embed="rId1"/>
          <a:stretch/>
        </p:blipFill>
        <p:spPr>
          <a:xfrm>
            <a:off x="237960" y="1852560"/>
            <a:ext cx="8668080" cy="315288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1" descr=""/>
          <p:cNvPicPr/>
          <p:nvPr/>
        </p:nvPicPr>
        <p:blipFill>
          <a:blip r:embed="rId2"/>
          <a:stretch/>
        </p:blipFill>
        <p:spPr>
          <a:xfrm>
            <a:off x="684360" y="4005360"/>
            <a:ext cx="5256000" cy="44748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1" descr=""/>
          <p:cNvPicPr/>
          <p:nvPr/>
        </p:nvPicPr>
        <p:blipFill>
          <a:blip r:embed="rId3"/>
          <a:stretch/>
        </p:blipFill>
        <p:spPr>
          <a:xfrm>
            <a:off x="611280" y="4581360"/>
            <a:ext cx="52560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1" dur="1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6" dur="10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6" name="图片 54276" descr=""/>
          <p:cNvPicPr/>
          <p:nvPr/>
        </p:nvPicPr>
        <p:blipFill>
          <a:blip r:embed="rId1"/>
          <a:stretch/>
        </p:blipFill>
        <p:spPr>
          <a:xfrm>
            <a:off x="257040" y="762120"/>
            <a:ext cx="8629920" cy="533376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1" descr=""/>
          <p:cNvPicPr/>
          <p:nvPr/>
        </p:nvPicPr>
        <p:blipFill>
          <a:blip r:embed="rId2"/>
          <a:stretch/>
        </p:blipFill>
        <p:spPr>
          <a:xfrm>
            <a:off x="8028000" y="4610160"/>
            <a:ext cx="50328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3" dur="1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8" name="图片 52231" descr=""/>
          <p:cNvPicPr/>
          <p:nvPr/>
        </p:nvPicPr>
        <p:blipFill>
          <a:blip r:embed="rId1"/>
          <a:stretch/>
        </p:blipFill>
        <p:spPr>
          <a:xfrm>
            <a:off x="433440" y="1547640"/>
            <a:ext cx="8277120" cy="376272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1" descr=""/>
          <p:cNvPicPr/>
          <p:nvPr/>
        </p:nvPicPr>
        <p:blipFill>
          <a:blip r:embed="rId2"/>
          <a:stretch/>
        </p:blipFill>
        <p:spPr>
          <a:xfrm>
            <a:off x="826920" y="2637000"/>
            <a:ext cx="4608720" cy="44748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1" descr=""/>
          <p:cNvPicPr/>
          <p:nvPr/>
        </p:nvPicPr>
        <p:blipFill>
          <a:blip r:embed="rId3"/>
          <a:stretch/>
        </p:blipFill>
        <p:spPr>
          <a:xfrm>
            <a:off x="971640" y="4653000"/>
            <a:ext cx="460836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" dur="1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5" dur="1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7-02T09:03:39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